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03200" y="683280"/>
            <a:ext cx="4495680" cy="33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10280" y="4271400"/>
            <a:ext cx="5681880" cy="40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my notes for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">
            <a:hlinkClick r:id="" action="ppaction://hlinkshowjump?jump=endshow"/>
          </p:cNvPr>
          <p:cNvSpPr/>
          <p:nvPr/>
        </p:nvSpPr>
        <p:spPr>
          <a:xfrm>
            <a:off x="8431200" y="101520"/>
            <a:ext cx="361800" cy="362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>
            <a:hlinkClick r:id="" action="ppaction://hlinkshowjump?jump=lastslide"/>
          </p:cNvPr>
          <p:cNvSpPr/>
          <p:nvPr/>
        </p:nvSpPr>
        <p:spPr>
          <a:xfrm>
            <a:off x="7896240" y="0"/>
            <a:ext cx="460440" cy="576360"/>
          </a:xfrm>
          <a:custGeom>
            <a:avLst/>
            <a:gdLst>
              <a:gd name="textAreaLeft" fmla="*/ 29520 w 460440"/>
              <a:gd name="textAreaRight" fmla="*/ 430920 w 460440"/>
              <a:gd name="textAreaTop" fmla="*/ 29520 h 576360"/>
              <a:gd name="textAreaBottom" fmla="*/ 546840 h 576360"/>
            </a:gdLst>
            <a:ahLst/>
            <a:rect l="textAreaLeft" t="textAreaTop" r="textAreaRight" b="textAreaBottom"/>
            <a:pathLst>
              <a:path w="21600" h="27034">
                <a:moveTo>
                  <a:pt x="0" y="0"/>
                </a:moveTo>
                <a:lnTo>
                  <a:pt x="21600" y="0"/>
                </a:lnTo>
                <a:lnTo>
                  <a:pt x="21600" y="27034"/>
                </a:lnTo>
                <a:lnTo>
                  <a:pt x="0" y="27034"/>
                </a:lnTo>
                <a:close/>
              </a:path>
              <a:path fill="lightenLess" w="21600" h="270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4">
                <a:moveTo>
                  <a:pt x="21600" y="0"/>
                </a:moveTo>
                <a:lnTo>
                  <a:pt x="21600" y="27034"/>
                </a:lnTo>
                <a:lnTo>
                  <a:pt x="20200" y="25634"/>
                </a:lnTo>
                <a:lnTo>
                  <a:pt x="20200" y="1400"/>
                </a:lnTo>
                <a:close/>
              </a:path>
              <a:path fill="darkenLess" w="21600" h="27034">
                <a:moveTo>
                  <a:pt x="21600" y="27034"/>
                </a:moveTo>
                <a:lnTo>
                  <a:pt x="0" y="27034"/>
                </a:lnTo>
                <a:lnTo>
                  <a:pt x="1400" y="25634"/>
                </a:lnTo>
                <a:lnTo>
                  <a:pt x="20200" y="25634"/>
                </a:lnTo>
                <a:close/>
              </a:path>
              <a:path fill="lighten" w="21600" h="27034">
                <a:moveTo>
                  <a:pt x="0" y="270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firstslide"/>
          </p:cNvPr>
          <p:cNvSpPr/>
          <p:nvPr/>
        </p:nvSpPr>
        <p:spPr>
          <a:xfrm>
            <a:off x="7469280" y="101520"/>
            <a:ext cx="361800" cy="362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firstslide"/>
          </p:cNvPr>
          <p:cNvSpPr/>
          <p:nvPr/>
        </p:nvSpPr>
        <p:spPr>
          <a:xfrm>
            <a:off x="304920" y="266760"/>
            <a:ext cx="736560" cy="749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78040" y="912960"/>
            <a:ext cx="57891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Enlightenment and Revolution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1550–1789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73360" y="1936800"/>
            <a:ext cx="648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nlightenment scientists and thinkers produce revolutions in science, the arts, government, and religion. New ideas lead to the American Revolu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0160" y="3940200"/>
            <a:ext cx="595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revolution in intellectual activity changes Europeans’ view of government and socie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370160" y="2397240"/>
            <a:ext cx="6800400" cy="1581480"/>
            <a:chOff x="1370160" y="2397240"/>
            <a:chExt cx="6800400" cy="1581480"/>
          </a:xfrm>
        </p:grpSpPr>
        <p:sp>
          <p:nvSpPr>
            <p:cNvPr id="128" name=""/>
            <p:cNvSpPr/>
            <p:nvPr/>
          </p:nvSpPr>
          <p:spPr>
            <a:xfrm>
              <a:off x="1370160" y="2397240"/>
              <a:ext cx="431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0160" y="2787480"/>
              <a:ext cx="6800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The Enlightenment in Europe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71560" y="1827360"/>
            <a:ext cx="41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wo Views on Gover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72320" y="941400"/>
            <a:ext cx="55771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The Enlightenment in Europ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73360" y="2403360"/>
            <a:ext cx="59594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Ways of Thin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ientific Revolution spurs reassessment of man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vailing ide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uropeans seek insights into society during 1600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700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ads to the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Enlighten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a movement stress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son and thou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37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73360" y="4486320"/>
            <a:ext cx="58100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bbes’s Social Con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bbes distrusts humans, favors strong govern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keep 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mo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social contra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getting order by giv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 to mon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81640" y="1593720"/>
            <a:ext cx="362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Two Views on Government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73360" y="2174760"/>
            <a:ext cx="58006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cke’s Natural Rig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ilosopher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John Lock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ays government ge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 from the peop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esses that people have a right to overthrow 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just gover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49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75520" y="159876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Philosophes Advocate Reas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73360" y="2174760"/>
            <a:ext cx="5445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liefs of the Philosop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philosoph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French social critics in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d-1700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lue reason, nature, happiness, progres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be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57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73360" y="3670200"/>
            <a:ext cx="573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oltaire Combats Intole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Voltai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influential philosophe, pen nam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ançois Marie Arou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shes many works arguing for tolerance, rea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kes powerful enemies and is imprisoned twice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is view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80200" y="1690560"/>
            <a:ext cx="438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The Philosophes Advocate Reas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73360" y="2174760"/>
            <a:ext cx="58006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ntesquieu and the Separation of Pow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Montesquie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French writer who admires Britain’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vernment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vors separation of powers to keep one body 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unning gover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73360" y="370836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usseau: Champion of Free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Roussea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philosophe who favors individu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edom, direct democr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ews social contract as agreement by free peop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form gover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7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773360" y="523404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ccaria Promotes Criminal Jus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alian philosopher Cesare Beccaria works to refo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stice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ls for speedy trials, greater rights for crimin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nda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71560" y="1598760"/>
            <a:ext cx="47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Women and the Enlighte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73360" y="2174760"/>
            <a:ext cx="5445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iews on Women’s Education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Enlightenment thinkers take tradition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ews of women’s r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minent wri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Mary Wollstonecraf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urg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eater rights for wome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gues women need quality education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 virtuous and usefu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rges women to go into traditionally ma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fessions like poli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 wealthy women use their status to spre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lightenment ide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79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72280" y="1598760"/>
            <a:ext cx="44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Legacy of the Enlighte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73360" y="2174760"/>
            <a:ext cx="5445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e of the Philosop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hilosophes are not activists, but inspi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rev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88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73360" y="3147840"/>
            <a:ext cx="5736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lief in Prog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ientific breakthroughs show human capacity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rove soci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773360" y="411948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More Secular Outl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 knowledge of the world leads people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stion religious id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oltaire and others criticize beliefs and practices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ristia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81280" y="159372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Legacy of the Enlightenment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73360" y="2174760"/>
            <a:ext cx="58006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ortance of the Indivi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 place more emphasis on individual right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son becomes a central concept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ilosophers, rul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201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1371600" y="2486160"/>
            <a:ext cx="5324400" cy="1640520"/>
            <a:chOff x="1371600" y="2486160"/>
            <a:chExt cx="5324400" cy="1640520"/>
          </a:xfrm>
        </p:grpSpPr>
        <p:sp>
          <p:nvSpPr>
            <p:cNvPr id="205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71600" y="2867040"/>
              <a:ext cx="5324400" cy="12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The Enlightenment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Spreads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370160" y="4176720"/>
            <a:ext cx="60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lightenment ideas spread through the Western world and profoundly influence the arts and govern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5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72280" y="182736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A World of Ide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73360" y="2403360"/>
            <a:ext cx="5788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llectual Life in Pa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is becomes center of the Enlightenment du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700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ity is home 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sal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gatherings where think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cuss id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15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73360" y="3943440"/>
            <a:ext cx="578808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derot’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cyclop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ilosophe Denis Diderot begins publish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cycloped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175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t of books to which Enlightenment think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ibute ess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cycloped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ticles anger French governmen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tholic Chu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cyclopedi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lps spread Enlightenment ide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ross Euro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70160" y="885960"/>
            <a:ext cx="532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The Enlightenment Spread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78040" y="912960"/>
            <a:ext cx="57891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Enlightenment and Revolution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1550–178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2046240" y="2511360"/>
            <a:ext cx="1741680" cy="3812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" action="ppaction://hlinksldjump"/>
          </p:cNvPr>
          <p:cNvSpPr/>
          <p:nvPr/>
        </p:nvSpPr>
        <p:spPr>
          <a:xfrm>
            <a:off x="2046240" y="3073320"/>
            <a:ext cx="1741680" cy="3812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3" action="ppaction://hlinksldjump"/>
          </p:cNvPr>
          <p:cNvSpPr/>
          <p:nvPr/>
        </p:nvSpPr>
        <p:spPr>
          <a:xfrm>
            <a:off x="2046240" y="3606840"/>
            <a:ext cx="1741680" cy="3808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4" action="ppaction://hlinksldjump"/>
          </p:cNvPr>
          <p:cNvSpPr/>
          <p:nvPr/>
        </p:nvSpPr>
        <p:spPr>
          <a:xfrm>
            <a:off x="2046240" y="4140360"/>
            <a:ext cx="1741680" cy="3808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7680" y="2502000"/>
            <a:ext cx="305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cientific Revolu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46960" y="3078000"/>
            <a:ext cx="354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Enlightenment in Euro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46240" y="3591000"/>
            <a:ext cx="34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Enlightenment Sprea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46600" y="4129200"/>
            <a:ext cx="31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merican Revolu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73360" y="159876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New Artistic Sty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73360" y="2174760"/>
            <a:ext cx="5445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oclassical Style Emer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-Enlightenment art style 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baroq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gran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nate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lightenment style is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neoclassi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based 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eek/Roman t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73360" y="3681360"/>
            <a:ext cx="57369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nges in Music and Lit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ical music emerges; lighter, more elegant th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lier sty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d by composers such as Haydn, Mozar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ethov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el emerges; works of fiction with detailed plo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charac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uel Richardson’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mel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onsidered first tr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lish nov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28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73000" y="1598760"/>
            <a:ext cx="453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Enlightenment and Monarch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73360" y="2174760"/>
            <a:ext cx="5445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lightened Desp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irit of the Enlightenment prompts ris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enlightened despo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archs who embrace Enlightenment valu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strengthen their r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773360" y="370044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ederick the Gre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derick II, king of Prussia, reforms education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stice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ants religious freedom, abolishes torture, fails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d serfd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38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73360" y="519588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oseph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oseph II of Austria allows freedoms of worship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olishes serfdom, but the practice 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instated after his dea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774800" y="2174760"/>
            <a:ext cx="54658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therine the Gre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Catherine the Gre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enlightened ruler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ussia, 1762–179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eks to abolish capital punishment and tortur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t effort fai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ponds to peasant revolt by giving no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power over ser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81280" y="1690560"/>
            <a:ext cx="38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Enlightenment and Monarch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49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1773360" y="4243320"/>
            <a:ext cx="57369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therine Expands Rus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foreign affairs, Catherine successfully expan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ussian emp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ains port access for Russia by seizing norther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ast of Black Se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izes large parts of Poland, increasing empire’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370160" y="2486160"/>
            <a:ext cx="7232400" cy="1057680"/>
            <a:chOff x="1370160" y="2486160"/>
            <a:chExt cx="7232400" cy="1057680"/>
          </a:xfrm>
        </p:grpSpPr>
        <p:sp>
          <p:nvSpPr>
            <p:cNvPr id="255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370160" y="2867040"/>
              <a:ext cx="7232400" cy="67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The American Revolution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370160" y="3490920"/>
            <a:ext cx="60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lightenment ideas help spur the American colonies to shed British rule and create a new 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5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72280" y="182736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69800" y="941400"/>
            <a:ext cx="487908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The American Revolutio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773360" y="2403360"/>
            <a:ext cx="57880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American Colonies G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merican colonies grow large and populous du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600s, 1700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onies thrive economically through trade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ur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itain’s Navigation Act restricts that trade (165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 trade laws add restrictions, ta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onists identify less and less as British subjec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65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772280" y="1827360"/>
            <a:ext cx="514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Britain and Its American Colon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74080" y="1598760"/>
            <a:ext cx="46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Americans Win Independ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73360" y="2174760"/>
            <a:ext cx="54450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itish–Colonial Tensions Ari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itain, American colonies win French and Indi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r in 176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itain taxes colonists to help pay war deb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onists argue that British cannot tax th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out their cons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76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774800" y="3946680"/>
            <a:ext cx="54658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rowing Hostility Leads to W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onists protest tea tax with “Boston Tea Party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77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onists meet in Philadelphia to address Britis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licies (177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itish and Americans exchange fire 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xington and Concord in 17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74800" y="2174760"/>
            <a:ext cx="54658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Influence of the Enlighte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onial leaders push for independence, rely 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lightenment id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Declaration of Independ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docu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stifying colonial rebe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ader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Thomas Jeffer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writes Declaratio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ideas of Loc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86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1779840" y="1690560"/>
            <a:ext cx="389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Americans Win Independen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74800" y="4232160"/>
            <a:ext cx="54658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ccess for the Colon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pite British military might, colonists ha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vantag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tivating cause of freed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nch assi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r’s expense for Brit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itish surrender at Yorktown in 1781; colonis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n the w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74800" y="2174760"/>
            <a:ext cx="54658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Weak National Gover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ticles of Confederation set government plan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 republ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ticles create legislature only, no executive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dicial 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ult is weak national government fails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vide unity and 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75520" y="1593720"/>
            <a:ext cx="44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Americans Create a Republ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97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1774800" y="4251240"/>
            <a:ext cx="56548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New Constit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aders call Constitutional Convention in 1787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se arti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oup instead creates a new government un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.S. Constit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itution contains many political ideas of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lighte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74800" y="2174760"/>
            <a:ext cx="5465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ederal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itution creates three branches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vides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checks and balan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ensu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anches share power equal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mo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federal 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power divid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tween nation and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307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1779840" y="1690560"/>
            <a:ext cx="381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Americans Create a Republi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74800" y="4222800"/>
            <a:ext cx="5654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Bill of Ri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 fear too much national power, fe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ections of ri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aders win support for Constitution by adding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Bill of Ri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n amendments to Constitution that prot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reedom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000"/>
                            </p:stCondLst>
                            <p:childTnLst>
                              <p:par>
                                <p:cTn id="5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344680" y="2827440"/>
            <a:ext cx="61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his is the end of the chapter presentation of lecture notes. Click the HOME or EXIT butt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381880" y="6010200"/>
            <a:ext cx="495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370520" y="2486160"/>
            <a:ext cx="7168320" cy="1057680"/>
            <a:chOff x="1370520" y="2486160"/>
            <a:chExt cx="7168320" cy="1057680"/>
          </a:xfrm>
        </p:grpSpPr>
        <p:sp>
          <p:nvSpPr>
            <p:cNvPr id="61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70520" y="2867040"/>
              <a:ext cx="7168320" cy="67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The Scientific Revolution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376280" y="3494160"/>
            <a:ext cx="653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mid-1500s, scientists begin to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cepted beliefs and make new theories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 experi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8402760" y="6443640"/>
            <a:ext cx="512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BAC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>
            <a:hlinkClick r:id="" action="ppaction://hlinkshowjump?jump=endshow"/>
          </p:cNvPr>
          <p:cNvSpPr/>
          <p:nvPr/>
        </p:nvSpPr>
        <p:spPr>
          <a:xfrm>
            <a:off x="8431200" y="111240"/>
            <a:ext cx="361800" cy="36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>
            <a:hlinkClick r:id="" action="ppaction://hlinkshowjump?jump=firstslide"/>
          </p:cNvPr>
          <p:cNvSpPr/>
          <p:nvPr/>
        </p:nvSpPr>
        <p:spPr>
          <a:xfrm>
            <a:off x="304920" y="266760"/>
            <a:ext cx="736560" cy="749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>
            <a:hlinkClick r:id="" action="ppaction://hlinkshowjump?jump=previousslide"/>
          </p:cNvPr>
          <p:cNvSpPr/>
          <p:nvPr/>
        </p:nvSpPr>
        <p:spPr>
          <a:xfrm>
            <a:off x="8408880" y="6045120"/>
            <a:ext cx="438120" cy="438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05160" y="1274760"/>
            <a:ext cx="545796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 Slide Sh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O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enu, selec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 In the pop-up menu, selec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rosoft PowerPoi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dialog box does not include this pop-up, continue to step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 wh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ox, choose the presentation format you want to print: slides, notes, handouts, or out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Click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utton to print the PowerPoint 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>
            <a:hlinkClick r:id="" action="ppaction://hlinkshowjump?jump=firstslide"/>
          </p:cNvPr>
          <p:cNvSpPr/>
          <p:nvPr/>
        </p:nvSpPr>
        <p:spPr>
          <a:xfrm>
            <a:off x="7469280" y="101520"/>
            <a:ext cx="361800" cy="362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11120" y="1644480"/>
            <a:ext cx="2816280" cy="210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73360" y="1827360"/>
            <a:ext cx="45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Roots of Modern Sci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71960" y="941400"/>
            <a:ext cx="483516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The Scientific Revolutio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73360" y="2403360"/>
            <a:ext cx="56671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Medieval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st knowledge in Middle Ages comes from Bibl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reek/Roman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geocentric the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moon, sun, plane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volve around ea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7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73360" y="3917880"/>
            <a:ext cx="57369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New Way of Thin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naissance prompts new ways of thinking (1300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60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Scientific Revol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new way of viewing natur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orld—based on observation, inqui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discoveries, overseas exploration open u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in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cholars make new developments in astronom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themat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72640" y="1598760"/>
            <a:ext cx="58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A Revolutionary Model of the Univer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8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1773360" y="2174760"/>
            <a:ext cx="57369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Heliocentric The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dely accepted geocentric theory challenged 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accu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pernicus develops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heliocentric the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plane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olve around 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ter scientists mathematically prove Copernicus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 corr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73360" y="423216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lileo’s Discov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alian scient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Galileo Galile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makes key advanc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astron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kes discovery about planet surfaces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s heliocentric theo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74800" y="2174760"/>
            <a:ext cx="54658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lict with the Chu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urch attacks Galileo’s work, fears it wil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aken people’s fa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pe forces Galileo to declare his and other ne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ndings are wro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82000" y="159372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A Revolutionary Model of the Universe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9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71920" y="1598760"/>
            <a:ext cx="34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Scientific Meth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99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1773360" y="2174760"/>
            <a:ext cx="607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Logical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olution in thinking leads to development 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scientific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ies of steps for forming, testing scientific theo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73360" y="3403440"/>
            <a:ext cx="6659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con and Descar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nkers Bacon and Descartes help to create scientif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con urges scientists to experiment before draw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lu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cartes advocates using logic, math to reason out bas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u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70120" y="1598760"/>
            <a:ext cx="54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Newton Explains the Law of Grav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09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773360" y="2174760"/>
            <a:ext cx="5736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ton’s Theo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lish scientist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Isaac Newt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develo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ory of mo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s same forces rule motion of planet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tter in space, ea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tion in space, earth linked by the law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versal gravi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lds that every object in universe attrac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ery other obj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ton views universe as a vast, perf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chanical cl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72280" y="1598760"/>
            <a:ext cx="51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Scientific Revolution Sprea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18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773360" y="217476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cientific Instr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ientists develop microscope, baromet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mo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 instruments lead to better observations, ne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cove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73360" y="3679920"/>
            <a:ext cx="57369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dicine and the Human B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reas Vesalius improves knowledge of anatom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ward Jenner produces world’s first vaccination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smallp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73360" y="493704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coveries in Chemi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bert Boyle argues that matter is made of man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parti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yle’s law reveals interaction of volum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mperature, gas press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21:09:30Z</dcterms:created>
  <dc:creator>McDougal Littell</dc:creator>
  <dc:description/>
  <dc:language>en-US</dc:language>
  <cp:lastModifiedBy>Amy Kalas</cp:lastModifiedBy>
  <cp:lastPrinted>2003-11-12T20:33:16Z</cp:lastPrinted>
  <dcterms:modified xsi:type="dcterms:W3CDTF">2007-11-30T03:24:17Z</dcterms:modified>
  <cp:revision>857</cp:revision>
  <dc:subject/>
  <dc:title>No Slide Title</dc:title>
</cp:coreProperties>
</file>